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436-578F-4021-837F-27470ABB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0E7-8A08-4FDA-A796-FE5C88C8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F91-0B85-4B5B-8C25-40BB0042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A2D-9E14-4BC4-B2F7-CE3D0F13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16D-9D3D-4B21-B655-F230BCEB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574-43E1-4DE2-915A-CE96EA87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EE6-EF97-4BD5-B2D6-9D15CF5D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C13-2BDE-4320-8EDE-F43BED29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F39-ECA1-42A5-8693-D0B6C84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C26-B110-4662-B601-5E043307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EE4-2DF2-4C7A-BD45-A6C7447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87B-824C-4295-B29F-30B6447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1FBF-188A-4695-9E46-B3AFC60D9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124080"/>
            <a:ext cx="8686800" cy="3277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533520"/>
            <a:ext cx="4267080" cy="6603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541840"/>
            <a:ext cx="8458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914400"/>
            <a:ext cx="3733920" cy="509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191120"/>
            <a:ext cx="8458200" cy="203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657600"/>
            <a:ext cx="8763120" cy="2454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541840"/>
            <a:ext cx="8458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352680"/>
            <a:ext cx="8458200" cy="28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066680"/>
            <a:ext cx="434340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895480"/>
            <a:ext cx="8458200" cy="3277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5562720"/>
            <a:ext cx="89917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2286000"/>
            <a:ext cx="5410080" cy="4111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895480"/>
            <a:ext cx="8534520" cy="3277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9:59:50Z</dcterms:created>
  <dc:creator>TIC</dc:creator>
  <dc:description/>
  <dc:language>en-US</dc:language>
  <cp:lastModifiedBy>TIC</cp:lastModifiedBy>
  <dcterms:modified xsi:type="dcterms:W3CDTF">2009-07-08T09:02:14Z</dcterms:modified>
  <cp:revision>73</cp:revision>
  <dc:subject/>
  <dc:title>Presentación de PowerPoint</dc:title>
</cp:coreProperties>
</file>